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064-8594-4F5D-8AAE-8BAE0E7C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CBF-0E8E-4210-9B65-2262B22A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3D174-6DF9-4F4E-A62D-2E71F973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AC8A4-683E-4DE5-B42E-D6AA00E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5643D-EDCC-4B37-ACBA-79AB2D3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3E8B4-F0FB-466F-A2DA-11689DA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BA4ED-E3A5-4E36-BCB9-ECA8FEC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957C0-086F-401C-AC05-7F313147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BE9B7-9AF5-4507-9BF2-F2950B0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86D5E-047B-4DF0-8A94-5335B4AD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AB73F-3D43-489E-87FB-90997093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0BD98-8409-41AA-9FA1-3E0531FC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79F-6957-4F62-ACC3-D05EB53F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99F6E-ED86-40A5-B49A-8134CC99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79D1-9821-43E4-9141-C4E9E93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9E39B-451C-4DE4-BFE1-6BDC70AA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AFA97-29C9-43F4-9B3F-D61B481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7B006-57BC-4743-A045-E4DC6942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36F18-7352-44E4-9658-C1006C5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24F1F-2C57-48E7-81E7-49266D1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3EB1A-3E95-4722-A8D5-E7B7DD1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BA42-B4B4-4E1A-BC4E-5BF3E0F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9BF8E-48BC-459A-8C53-ED52FB7A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543-AC6C-4E05-A156-A35595FA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75B42-5FE3-4D27-900C-336F1258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561BB-34BE-4BEC-AB5B-F1A8176A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1460C-A48C-423E-A9D2-875A3F77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5EA69-F7B8-411E-B6C1-3271C943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0DEC9-B870-4096-8501-6B1A3A3B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B44BB-B641-4ADC-963A-2DDA836F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3022D-0C9F-4321-A9D4-E621608E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F7E78-05DA-4D37-8D4F-B1A7318A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430E5-2264-4417-8C51-0E31056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87E63-CF3B-4901-B9DA-1F360EE6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F5D-3E50-44B5-9E85-70269BA4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C00C0-8728-45CB-8DE1-8F884CC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B44F8-9043-4858-A751-7193A1FB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6D2D6-6398-4883-BA5B-C1D4BDE8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7636D-EF3D-4EFD-9E73-B8C15F5D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A04B2-8CE8-4428-BEA2-41A19146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8F337-C903-4F4C-995A-4B3D99AC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558C6-5131-4BAF-8061-D82B30E5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F8439-76EF-49A3-A044-2706B044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04350-4ECD-413F-8C8E-A08847E9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29669-209F-4533-B8DC-2BE2FF72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E505-BFFF-49B8-8C7C-AEC3B238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01F5D-03A9-46DF-B465-A2D95E08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8DA2B-7AC1-4010-8F97-E9A78E8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CAFCF-4D67-4148-AEB7-3FFF33D2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A31D2-E29B-4276-9D9F-E7E1EC64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804A3-F28F-407F-B40F-45596F7D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07B13-6087-4AB7-971E-FB593D8D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074FF-5416-4B7B-A2A5-3C8FA7C1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4406C-E269-43A9-926D-51F282E2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F7400-7A91-48B2-9DFF-1D94DBD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33DE4-921E-4B13-96A4-9689B10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527-22B0-422B-9477-D3EF7CE0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31148-367C-4EC6-8F51-CDF2D73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36335-A033-4D2E-AF2D-17C7A137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D0196-B473-4C67-9990-A7941B3D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CCFE3-053A-4013-AE25-0D986875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C214C-7DDA-46D6-8788-6052C53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6A972-12B5-4359-BD99-D5597FB1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AD1F6-3C8C-4F1B-B592-6919A9DE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9BE2C-C570-4F29-83CD-E4B08520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67001-E3DD-403F-8DEB-258BE04A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3B51A-B4F9-4C28-A0E4-778369C8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69CF-601F-4B14-A6B4-44605372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A98B1-C2C2-4081-86D2-C17AC90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88330-47DE-498B-BB87-CDAB55C7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FE40E-3C50-4F34-B383-4D501CBA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D1583-B31F-429A-8B3C-81E13C8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4BE19-B6C2-4A73-A2F5-972C1DE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9CD3A-B05C-41C5-A8D2-2666749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B48CB-7E93-4054-AFA6-96A10F11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2DE88-6342-4F8D-AC92-89048F8B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93627-6117-42F3-8CE6-52D7F6C6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AAFED-CB88-481D-9791-572A83FD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163F-0E62-4EBE-9C6A-B149600D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54C2F-410E-42D2-8AF9-919B410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6ED4D-7204-4D36-8D26-2B18BDF8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573A1-6A41-421B-90A6-6B8E6A17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5D83F-4653-4C50-81DA-B03F7EEF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C081A-852E-4B5A-B2B0-E642E66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7FB00-EA70-4A9F-A4C5-3832D8A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15060-31FA-4F58-BFDD-20BFED1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5E012-30D9-4C06-AD87-A9ED139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6067D-2C44-46FB-AF67-12C15ADF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B94F9-D719-4D4A-A867-4C0E0735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1BC-29AB-4311-8C60-234129C5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D787A-0893-4412-82C5-3AA79DEF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F5684-E5ED-42B6-9B6A-E111B1AD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CD1FF-ADDF-46B1-BD54-3BEC1A9E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3ED4C-1A07-413F-93D7-F9E752C0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84AFE-DB36-4699-BBEB-6BF5B81C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268AA-FB71-4277-8A28-D38587CA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240D2-3B8A-4ED2-82DC-7031CB05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8395B-83BF-499A-B70B-B0485A4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0C096-EEE6-46F1-9902-EA47B280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93524-BE9C-4E5C-A680-455B8BD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4BBD-1AE9-402F-86EF-1CA0F3B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445C3-6E63-46D5-AB68-6A2EA6C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CD10E-95AE-492B-B3D1-E2AF333D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3E9FA-68F0-4D48-80AA-41CED471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383BF-A6C5-4F16-AA0B-4E5F988A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A886D-378C-4A28-B7EC-935D363B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26A234-38AD-4B6B-91C5-0A736FB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5BB5A-7AB2-4B6B-9105-707500B7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30CF3-0587-457E-BD94-3302907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00291-CFEA-45F3-B7CA-5AE6046C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04694-3BBF-4555-BF5A-531B264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905-278A-4F75-BBFE-83A7C058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EF5-9BDE-45BA-A6AE-FEED2FF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B1DBD-5F8C-4CB9-ADA3-3539EE4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DE3F4-BDEA-4437-AC06-B1A8FF3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B62FE-9188-40D9-BA7B-8FA2F059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860DC-16C8-4E2A-A01B-58D4932E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615AA-686C-4521-94CB-AE7B4E99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E7966-B3A6-412F-A472-C3461403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B3AE2-7E48-4654-8B99-4FE7C7B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B4D30-1B2E-4D7C-B05C-30DA972D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D53B6-C640-4A61-A81F-93BE6340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7B250-26A7-4304-857D-D966F0B0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5AE8-D60C-4E4B-B10D-87842849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9FFB4-6ED2-4070-8BD5-D6F5637E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FE0D0-D301-4EF5-A2D0-8D6E3EF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59C7A-8158-489E-BC73-396FA82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E55BC-10DE-4383-8A04-A94191E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85328-344B-466A-82DF-22C44866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6C0C3-66AE-460B-BE64-923692F6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56DDF-F3CB-47DC-8AC6-804D3F80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8594C-25A2-4EF8-A299-7282B0E1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9886E-5994-427A-BD65-8A8D233C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69835-793C-46F0-9640-2C2D4BCA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8EAC-0C6B-44BD-BE3F-5FE92CAD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90DF0-23C4-4797-8B60-F8298089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8094D-89C4-478B-9FD9-5A618F02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F54E4-300F-4882-B4DE-8A96942C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55315-6ADE-410B-823A-CA85E88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F6FEA-1600-4666-B49D-9D39D84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807B5-16A1-42CC-9868-77589EB2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FFD63-AE52-48F9-8EFE-8310550A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D746D-789B-4B5E-99E4-946C1818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540DAA-063E-4BC2-9E37-127E06E2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E1A9F-5CF2-4460-A510-84D0F2A7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881E-5D0D-468A-B197-444C13B4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C1DBA-AF4F-4FC0-9EDD-CF5BBEF9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812BF-19B9-4B8B-98C1-7B7D1F7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D3851-3C4B-4F2A-A63E-2C34D5E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32BCE-8D81-46DA-84A6-4CDF2109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953AF-0937-42B1-98D0-806DDAB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50E9C-6FBC-4B6A-87A7-2CBA65D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B92E8-C3AD-46FD-B457-A79E6D4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12524-32AC-4B60-8161-0353F74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84CDE-F3FB-45D4-82A7-ED08DCA3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B0851-FECA-4BE7-AE33-96A88FFA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52C2-2A3E-4F48-B6C8-927CB67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F759B-ED82-4C91-BD49-5234C31D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A3C2F-2264-4DA1-B335-C8A9469F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65BB78-EF0D-4FCF-9AAD-8219D21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B92E6-5F02-4E33-B74A-0D62B73D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66953-9F9A-4BFD-AE0B-3D7EA0DB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03F82-9980-495C-B07F-254F01C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5AACC-336A-47DB-94EA-E40C4607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78590-4040-4C11-B5EE-DA55282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CDBCC4-F1C8-4392-8AD5-1936A871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FBD3A-39CD-4F48-87DE-1B350EA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1986-3F19-4DF8-A00C-DD95BEB7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DE555B-94BA-445A-92BC-BC4CE4EB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AB559-9A38-417B-A72E-742F48A1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DB5FB-DD44-4022-BA2C-57887B70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DC71-51B1-4F1F-A304-FA07DD8B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F61C-C743-4BC5-AFAC-FF384AAA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F238-CF04-466E-B878-BB1E867B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6507-4C68-46B9-B2D5-D4C2287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C62-2C42-4A04-B4C0-09E19F0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9F4E-576F-4286-B0C7-02A0E618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85BF-CBD3-4CE1-9EB7-74E34E6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873F-54AD-4AD5-859E-6A767B69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E1CB-FD4E-4B3A-B5E7-CD1EE22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D941-7DC0-470A-BF9F-DD09367F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08C9-CA09-4006-BB25-91FC8971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2461-62B2-4A4D-A8E3-6D78CE4A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8DEEE-1394-4A58-8426-91DDDA89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FE149-EE75-422E-BFA8-D9EA6F87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97A9-D0F0-457F-8D19-7ADF52D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F5F-18E0-4A4B-9607-A8ECD8B8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9566-6FB4-46FC-A052-797E566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0103-087A-4748-AB2F-5C4186A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03434-49EE-4EEC-A572-C2D70D82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6C72-7C23-4D50-8846-E2CBC2D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0073-67BE-4394-8A68-042C214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5BE3-FC11-49A9-B79B-2D117725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41D4-D963-4C4E-AFB3-C11A076E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453E-A863-4910-AFD7-DE8508FD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847D-52C8-4F33-B5BB-7DAB1811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1507-8742-4920-B0CF-25190E61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263-7A6A-4A45-8125-CE0A719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C22A-DCBB-448D-B70D-D4E4FA6F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56FA-5D29-436C-951A-B8B55BB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2B71-584D-4BB5-B264-B841A9B7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1A85-EA64-4C28-A130-126CA4A7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8F4D-9F7C-40A5-B8B6-D174912C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53D2-1AF8-44C8-811B-F18E0AB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9285-FE5A-4471-A96B-F0DD9B49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82705-A04C-4E0E-95FF-D3A8658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855D-1B74-4724-A731-28B4646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281D9-87B3-4FAC-8B63-BF41D720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7D2-F74C-45F2-9510-6D52E18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4FDBE-CBB5-458A-88E7-E95897F9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A95BF-9A04-47C6-BDF7-81DD58B3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80E82-7431-4D09-9E6B-1F69199A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4127-FD67-454A-BDE3-50EA9DD7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7848C-D531-4EB1-A8DE-D7B7EA61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47D5B-4593-4E57-94B7-AFB608E6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1389-6C17-49D5-B2E6-F505D612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DA0C-86AB-40E9-A883-3A6D543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F1E3-9F8F-49E9-85B7-82BEB255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2D68B-A256-4165-947F-CB71580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0A3-97AB-45F0-A81E-DC5A4F3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917F-5513-4114-A156-F0C72B16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9D31-569B-473D-82DA-53C72873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A1D2B-8FF5-4974-B794-58E38B5D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41232-627E-4ABD-B596-D642CECE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5383-55D2-4C45-B910-7774EBD3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225A-BDA8-41AA-83C3-E9049C87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3027-CFA0-4E10-B0AF-9A00C4F0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DD232-FF19-46E0-A8B9-EEEB371F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85878-A8EA-48A5-BE68-7B9E3D3C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EFD0F-883A-4153-AE86-4383C599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1CF-01B7-4DCF-8C48-236F4E7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A1F9-B7D2-4E4F-87F4-9236914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A15FB-659B-4EBC-8471-D917C18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310D8-9698-4AD0-B087-54BD162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A969-FDD9-42EA-8291-CE517B33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3AA0-72D1-4282-AB2B-4EC40A84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79F0-459D-4204-B627-095A9585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50AD-AB37-411D-A448-AC374037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1304C-67E8-45D6-A1C0-EA5C3AEC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7B08C-30D0-4FBC-9577-D7ADEBC3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D4676-AD69-495A-9356-2DDE1905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391-4F32-4EA2-82B2-7EB3B55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DB555-AF53-49BC-8D5A-B51FEA26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527F8-5791-4CF5-ADBD-7AD2420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D5921-5492-4488-BCB1-0385367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A5A4E-4C5A-4825-8304-36547D39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8EBD5-156E-41CF-98F9-3C4E736D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4B82-E9C6-4186-9E84-D8D49013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7A6A-DB64-49E0-BA65-6367D681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834D6-4D7D-4962-9446-84911AA7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511B1-A911-4630-9702-42CD0ECA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AC423-8861-40AB-8C0B-A40D00A8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0DF-3F70-4D06-B11D-21B189FAB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E5D2-95B5-4E31-9E2F-5E7A46F22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FAA2-2472-4B8C-86AC-FC04E3A045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B444-B901-4EAF-9256-E29FCF7DC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03CB-9601-4A7D-A458-380291F6F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8109-BCBD-4F63-988E-1F2AA0199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168-68C1-4D4D-8F34-9CF09ABC4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FE93-2A68-41CB-8247-8C5A9D29B7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46CB-E9E9-4810-99D1-AFC495850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B07B-4178-4F5A-B1C7-BA1C7213D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A869-1A19-4908-ADF3-9F325AF12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3C84-7AC7-4843-BFFA-EA2081EE5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31CD-AAE4-441D-BCCB-6CF069542E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874E-BE47-4B55-8535-DE8D027FF3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FC3-7FA8-4814-A9F5-7F92FEE59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9314-DB93-4E5C-8BAE-18A635C8A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1380-4FB1-4EBB-8919-38839B7DF0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C18-505F-4471-8986-65E70F686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3EDC-C091-4C58-A718-BB1862043C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2DE-25BE-4EE1-93D9-08F640E20B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B61-7FCC-4A99-B20F-1FC0CDB75A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4B42-C577-4DA2-A5FE-8C5703CBCD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38AD-03E6-42BF-A94B-FAAB89F41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EC3-6E2E-43A1-B68D-88960DF97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897-95FB-4B4A-A0F1-49899FDDE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6210-497E-44CA-A6E0-454647413F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8E22-7375-4978-9CEB-A67F583C2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3636-22F1-48D9-B9EE-EB1F214E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515-1493-4F62-9380-87C83FA15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110-9F01-4527-8698-000C3AAB9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B5A4-E69C-4CAC-AC41-C533405645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F98-5BFA-40D1-8B46-CA729E893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851B-49D4-47D0-ACAB-C7D0221B4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40A1-6CC2-492D-BF5B-49F8540DF0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2755-580A-4BC8-8DFF-35FF1591B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0D6E-8AA2-43D7-ADF3-FE31FF9C2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106D-538E-493A-A785-E1FBDBE24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B715-7DD7-4144-94C1-6D355D9F80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1AED-2439-494B-8743-E40CDF5C1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6BF7-1948-4280-9572-3400F3A25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666800" y="2508120"/>
            <a:ext cx="5810400" cy="8859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4" descr=""/>
          <p:cNvPicPr/>
          <p:nvPr/>
        </p:nvPicPr>
        <p:blipFill>
          <a:blip r:embed="rId2"/>
          <a:stretch/>
        </p:blipFill>
        <p:spPr>
          <a:xfrm>
            <a:off x="136440" y="3797280"/>
            <a:ext cx="88725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4101"/>
          <p:cNvGrpSpPr/>
          <p:nvPr/>
        </p:nvGrpSpPr>
        <p:grpSpPr>
          <a:xfrm>
            <a:off x="666720" y="1657440"/>
            <a:ext cx="7810560" cy="3543120"/>
            <a:chOff x="666720" y="1657440"/>
            <a:chExt cx="7810560" cy="3543120"/>
          </a:xfrm>
        </p:grpSpPr>
        <p:pic>
          <p:nvPicPr>
            <p:cNvPr id="1030" name="图片 1" descr=""/>
            <p:cNvPicPr/>
            <p:nvPr/>
          </p:nvPicPr>
          <p:blipFill>
            <a:blip r:embed="rId2"/>
            <a:stretch/>
          </p:blipFill>
          <p:spPr>
            <a:xfrm>
              <a:off x="666720" y="1657440"/>
              <a:ext cx="7810560" cy="35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" descr=""/>
            <p:cNvPicPr/>
            <p:nvPr/>
          </p:nvPicPr>
          <p:blipFill>
            <a:blip r:embed="rId3"/>
            <a:stretch/>
          </p:blipFill>
          <p:spPr>
            <a:xfrm>
              <a:off x="2050920" y="2637000"/>
              <a:ext cx="5257800" cy="12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直接连接符 4102"/>
          <p:cNvSpPr/>
          <p:nvPr/>
        </p:nvSpPr>
        <p:spPr>
          <a:xfrm>
            <a:off x="2124000" y="2622600"/>
            <a:ext cx="4680000" cy="13827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3"/>
          <p:cNvSpPr/>
          <p:nvPr/>
        </p:nvSpPr>
        <p:spPr>
          <a:xfrm flipH="1">
            <a:off x="2843280" y="2622600"/>
            <a:ext cx="3744720" cy="1238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9360" y="1857240"/>
            <a:ext cx="9125280" cy="3143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042920" y="295272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042920" y="351468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042920" y="404820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985680" y="4581360"/>
            <a:ext cx="4748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09440" y="1962000"/>
            <a:ext cx="8923320" cy="293400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6146" descr=""/>
          <p:cNvPicPr/>
          <p:nvPr/>
        </p:nvPicPr>
        <p:blipFill>
          <a:blip r:embed="rId2"/>
          <a:stretch/>
        </p:blipFill>
        <p:spPr>
          <a:xfrm>
            <a:off x="1028880" y="2651040"/>
            <a:ext cx="647640" cy="6080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47" descr=""/>
          <p:cNvPicPr/>
          <p:nvPr/>
        </p:nvPicPr>
        <p:blipFill>
          <a:blip r:embed="rId3"/>
          <a:stretch/>
        </p:blipFill>
        <p:spPr>
          <a:xfrm>
            <a:off x="1014480" y="3429000"/>
            <a:ext cx="647640" cy="60804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48" descr=""/>
          <p:cNvPicPr/>
          <p:nvPr/>
        </p:nvPicPr>
        <p:blipFill>
          <a:blip r:embed="rId4"/>
          <a:stretch/>
        </p:blipFill>
        <p:spPr>
          <a:xfrm>
            <a:off x="1014480" y="4206960"/>
            <a:ext cx="6476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2" descr=""/>
          <p:cNvPicPr/>
          <p:nvPr/>
        </p:nvPicPr>
        <p:blipFill>
          <a:blip r:embed="rId1"/>
          <a:stretch/>
        </p:blipFill>
        <p:spPr>
          <a:xfrm>
            <a:off x="81000" y="1919160"/>
            <a:ext cx="8980560" cy="3019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4748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19120" y="1828800"/>
            <a:ext cx="8104320" cy="320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857160" y="1844640"/>
            <a:ext cx="4748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3:10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